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F0C2-E320-4F26-9438-61D166298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Use Rational Expon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Perform the indicated operation and simpl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Use Rational Expon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Perform the indicated operation and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 of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th Root of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in Either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in Either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gative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a-m/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aluating a-m/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for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for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 – 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 – 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nth root of number a is a number whose nth power is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whose nth power i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index n is even, then the radicand a must be non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nth root of number a is a number whose nth power is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whose nth power i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index n is even, then the radicand a must be non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 of 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 of 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y for Solving Equations with Exponents and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y for Solving Equations with Exponents and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4A2E-58CE-4A23-B6E1-53AE3D4A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DB82-9CCF-499F-844C-E65642D8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A877-A16E-4969-8998-3C7C1311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9046-5489-419E-B801-4A9B86D6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3DE3-1C3F-42B3-9443-79C803B8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4464-1852-4742-ADD1-D4C0550D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5CD2-E2E6-4524-B871-4EA5D7AB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57B0-0EE7-4007-979D-DBB3F5C3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3C05-1A7C-46F9-A45C-6E71B74B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FCD3-D4CB-4519-8145-9EB2B26C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19EA-F47F-41F4-90C7-1CB5C90A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8B83-D607-4950-A7DF-93B44C82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CECA-E7CD-4FB4-8C77-57874003C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C255-5AB7-4723-986F-7AC99AB95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Do We Use Rational Exponen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w: Perform the indicated operation and simpl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143000" y="4876920"/>
            <a:ext cx="3429000" cy="45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1523880" y="3200400"/>
            <a:ext cx="2514600" cy="79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FDAF-9C78-4C07-B10F-E6094E88C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84040" y="34452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 Root of Z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0" y="2666880"/>
            <a:ext cx="8945640" cy="103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" name="Object 8"/>
              <p:cNvSpPr txBox="1"/>
              <p:nvPr/>
            </p:nvSpPr>
            <p:spPr>
              <a:xfrm>
                <a:off x="838080" y="4191120"/>
                <a:ext cx="16002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D472-8D02-49D7-A475-E65B186C8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54160" y="77616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0" y="2851200"/>
            <a:ext cx="9144000" cy="204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072E-79A4-488E-833C-1A93AC76F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ng in Either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523880" y="2286000"/>
                <a:ext cx="5562720" cy="340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deg>
                                    <m:r>
                                      <m:t xml:space="preserve">3</m:t>
                                    </m:r>
                                  </m:deg>
                                  <m:e>
                                    <m:r>
                                      <m:t xml:space="preserve">8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8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0F93-9C24-4062-A211-528A828B0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84040" y="77616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0" y="2714760"/>
            <a:ext cx="8945640" cy="2328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A750-1FED-4578-A6AF-865CF2AD3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ng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4400" spc="-1" strike="noStrike" baseline="30000">
                <a:solidFill>
                  <a:srgbClr val="000000"/>
                </a:solidFill>
                <a:latin typeface="Times New Roman"/>
              </a:rPr>
              <a:t>m/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762120" y="2133720"/>
                <a:ext cx="67053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deg>
                                    <m:r>
                                      <m:t xml:space="preserve">3</m:t>
                                    </m:r>
                                  </m:deg>
                                  <m:e>
                                    <m:r>
                                      <m:t xml:space="preserve">8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1EF7-460C-42A7-AE42-6F7767D6A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57200" y="0"/>
            <a:ext cx="83772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for 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9005760" y="66596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 Helvetica Bold"/>
              </a:rPr>
              <a:t>7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0" y="2044800"/>
            <a:ext cx="9144000" cy="412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5061-70E0-48DD-89C4-1CD33E7FA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1600200" y="2057400"/>
                <a:ext cx="4648320" cy="36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CD27-CABC-4A5B-9E9C-CD7A7FC22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1371600" y="888840"/>
                <a:ext cx="6781680" cy="590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98C5-04AE-4D1C-AD68-6B12688F4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3"/>
              <p:cNvSpPr txBox="1"/>
              <p:nvPr/>
            </p:nvSpPr>
            <p:spPr>
              <a:xfrm>
                <a:off x="1828800" y="1525680"/>
                <a:ext cx="5410080" cy="508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9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8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7AFA-3095-4C87-A68A-38A5671BD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plying Radicals – Different Ind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304920" y="1905120"/>
                <a:ext cx="8229600" cy="34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6EFC-484B-44D0-A6CB-B0484002A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 Ro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80880" y="91440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 Ro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 ro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numbe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number whos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 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umber whos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 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even, the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dic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st be nonnega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 a real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143000" y="2514600"/>
                <a:ext cx="10666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7" name="Object 7"/>
          <p:cNvGraphicFramePr/>
          <p:nvPr/>
        </p:nvGraphicFramePr>
        <p:xfrm>
          <a:off x="762120" y="4800600"/>
          <a:ext cx="3217680" cy="12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800600"/>
                    <a:ext cx="3217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4783-6B2F-4D32-9800-567B9DF74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ing 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228600" y="1905120"/>
                <a:ext cx="8915400" cy="40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0008-E142-4C90-A73A-53488CC56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28600" y="1905120"/>
                <a:ext cx="8610480" cy="38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E22A-556F-4D82-B69B-DA4FC7DBE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228600" y="1905120"/>
                <a:ext cx="8686800" cy="392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189B-3E59-4A10-95A8-AB54A6E21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0" y="2048040"/>
                <a:ext cx="9144000" cy="37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8</m:t>
                            </m:r>
                          </m:e>
                        </m:ra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5A58-D528-455D-9C1F-594D18943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1371600" y="1828800"/>
                <a:ext cx="3048120" cy="26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7249-9277-41D3-B486-87E6AFB8A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1981080" y="990720"/>
                <a:ext cx="2178000" cy="548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EC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0CB4-D522-494E-A5D7-FED558DDD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1143000" y="1576440"/>
                <a:ext cx="3581280" cy="29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0ADF-D232-4C5D-A59E-E445478EC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1905120" y="1371600"/>
                <a:ext cx="3186000" cy="548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EC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28D3-231F-4B9E-B0D5-B3F339847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1371600" y="1676520"/>
                <a:ext cx="3048120" cy="24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0FAD-1539-4FA0-8062-78A0FDD95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1738440" y="1738440"/>
                <a:ext cx="3671640" cy="353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3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F9C6-0E04-4988-9D4E-A51AE42EA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254160" y="77616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 Helvetica Bold"/>
              </a:rPr>
              <a:t>Square Root of </a:t>
            </a:r>
            <a:r>
              <a:rPr b="0" i="1" lang="en-US" sz="4400" spc="-1" strike="noStrike">
                <a:solidFill>
                  <a:srgbClr val="000000"/>
                </a:solidFill>
                <a:latin typeface="BI Helvetica BoldOblique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BI Helvetica BoldOblique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-257040" y="65674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 Helvetica Bold"/>
              </a:rPr>
              <a:t>Page 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05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2666880" y="4343400"/>
                <a:ext cx="17528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85DE-49F3-4741-B701-E8DEB1BEF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1959120" y="1676520"/>
                <a:ext cx="3584520" cy="46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3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lu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2465-5996-4BEF-B71A-B1CE342D6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-257040" y="380880"/>
            <a:ext cx="985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y for Solving Equations with Exponents and 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B5CC-50CC-48AD-B017-57F30FDDB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4040" y="775800"/>
            <a:ext cx="83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0" y="2700360"/>
            <a:ext cx="9144000" cy="1849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6DA4-6868-43AE-9E43-4560FD3E9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58B8-CF2E-4677-8E0D-8791BAAD5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511200" y="53352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t 1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E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0" y="2743200"/>
            <a:ext cx="8915400" cy="133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9401-2D10-45F0-A676-94CB826B8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E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1219320" y="1782720"/>
                <a:ext cx="6933960" cy="466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e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fin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8FD4-BE76-427C-90FC-0DE0B494C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82760" y="344520"/>
            <a:ext cx="8377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t 1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Od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198360" y="2743200"/>
            <a:ext cx="8945640" cy="1609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6DD8-7C78-4578-A8BE-7B3441AB0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t 1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Od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1600200" y="1832040"/>
                <a:ext cx="4800600" cy="43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5</m:t>
                            </m:r>
                          </m:deg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8:09:43Z</dcterms:created>
  <dc:creator>David W. Casey</dc:creator>
  <dc:description/>
  <dc:language>en-US</dc:language>
  <cp:lastModifiedBy>RomaK</cp:lastModifiedBy>
  <dcterms:modified xsi:type="dcterms:W3CDTF">2015-09-04T09:19:45Z</dcterms:modified>
  <cp:revision>118</cp:revision>
  <dc:subject/>
  <dc:title>Intermediate Algebra Chapter 7</dc:title>
</cp:coreProperties>
</file>